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0A7-8D4C-48B6-BD01-0E23E33D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FD3-89C1-4706-A0CD-A377CA24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5B0-B5CE-45F4-AAFE-2D2199F6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4A5-17E9-413D-BF0E-764D1D1C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C3F9-1EE5-4525-B287-25AEB054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1E07-AC85-48B2-B45B-FFF5ED8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C1DF-7D1A-440F-8B84-251CE23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75E0-1D3E-4DFA-BE2F-6259D54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8A1F-FC2E-4BA6-984A-DA8233E8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0A0D-B15B-4389-9E23-3C14C967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7CA-19AF-4F17-BA4F-AA7B8A3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0EB-E718-499A-A98A-0E0CA587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339D-A39F-4D0E-8C0A-CF612DD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A57F-E58F-4660-987F-07D682E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51AE-C3DB-4F60-9F2D-83219D8D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3E4F-0FB8-4208-9002-69A4B69E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A2FA-596F-47AE-95A1-D540360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4A6-8A35-4C19-A414-0C16507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AEC-7C89-4C56-8016-D492A50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280-EF60-4AC4-8C99-C8CEA3F2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608-24CA-4670-87D8-930AFD73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7B0-4D40-48BE-BA55-ABD7BA3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CA1-2141-4BF1-84F8-19ABD694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449-623B-46FC-95AD-672E9BF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6C5D0-11C3-4F64-B71C-519B2743664D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69F67A-4B81-403C-920F-DEDB554713E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628640"/>
          <a:ext cx="8128080" cy="4621320"/>
        </p:xfrm>
        <a:graphic>
          <a:graphicData uri="http://schemas.openxmlformats.org/drawingml/2006/table">
            <a:tbl>
              <a:tblPr/>
              <a:tblGrid>
                <a:gridCol w="2989080"/>
                <a:gridCol w="2781360"/>
                <a:gridCol w="2357640"/>
              </a:tblGrid>
              <a:tr h="4273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6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grafía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ipo de letra, negrita, cur-siva, etc.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tografí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posición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már-genes, espaciados, columnas,…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ágenes y signo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peciales (numera-ción, emoticonos, etc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ón entre emisor y receptor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jefe-empleado, profesor-alumno, padres-hijos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que se produce la comunicación: formal e informal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nción comunicativa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28640"/>
          <a:ext cx="8502840" cy="4537080"/>
        </p:xfrm>
        <a:graphic>
          <a:graphicData uri="http://schemas.openxmlformats.org/drawingml/2006/table">
            <a:tbl>
              <a:tblPr/>
              <a:tblGrid>
                <a:gridCol w="3176640"/>
                <a:gridCol w="3094200"/>
                <a:gridCol w="2232000"/>
              </a:tblGrid>
              <a:tr h="455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0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nos de palab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aboración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tre emisor y receptor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ocimiento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l mund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ximidad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erca-nía o distancia emo-cional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hablado, es-crito, en un SMS, en un foro de internet, etc.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628640"/>
          <a:ext cx="8642160" cy="4824720"/>
        </p:xfrm>
        <a:graphic>
          <a:graphicData uri="http://schemas.openxmlformats.org/drawingml/2006/table">
            <a:tbl>
              <a:tblPr/>
              <a:tblGrid>
                <a:gridCol w="1977840"/>
                <a:gridCol w="1749600"/>
                <a:gridCol w="2178000"/>
                <a:gridCol w="273672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eccionar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 que quere-mos comuni-c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r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infor- mación de acuerdo con nuestro propósit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dad temát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odos los enuncia-dos. Un eje temático, sin  des-viarnos de nuestro objetivo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óg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os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dos; sin  contradic-cion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 y je-rarquí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as ideas, desde las más gene-rales a las más particular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matical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y que tener en cuen-ta las normas gra-maticales de la len-gua emplead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a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emos emplear un léxico, variado, preciso y adecuado a la te-mática del 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S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628640"/>
          <a:ext cx="8643960" cy="4829400"/>
        </p:xfrm>
        <a:graphic>
          <a:graphicData uri="http://schemas.openxmlformats.org/drawingml/2006/table">
            <a:tbl>
              <a:tblPr/>
              <a:tblGrid>
                <a:gridCol w="3960720"/>
                <a:gridCol w="4683240"/>
              </a:tblGrid>
              <a:tr h="482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Í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3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nombre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es, demostrativos, indefinidos, poses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erminantes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ículos, posesivos, demostrat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erbio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iempo, lu-gar, modo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peti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idénticas o de la misma clase gramatica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titu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por otras de significado equivalente o próxim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ipsi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misión de palabras que se sobreentienden por el con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OHESIÓN (II)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413000"/>
          <a:ext cx="8454960" cy="4968720"/>
        </p:xfrm>
        <a:graphic>
          <a:graphicData uri="http://schemas.openxmlformats.org/drawingml/2006/table">
            <a:tbl>
              <a:tblPr/>
              <a:tblGrid>
                <a:gridCol w="2521080"/>
                <a:gridCol w="3394080"/>
                <a:gridCol w="253980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 Y ESCRIT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 DE FUNCIÓN FÁTIC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MOD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ro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erdo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y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eno,..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i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emás, también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aste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o, en cambio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nque, a pesar de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a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, ya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ecuenci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lo tanto, por consiguient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ejemplo, es decir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mpo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ero, luego,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supuesto, natu-ralmente,…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, siempre y cuando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apertura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empezar, en primer lugar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istribución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una parte, por otra (parte)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cierre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 de-finitiva, por último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06:58:13Z</dcterms:modified>
  <cp:revision>18</cp:revision>
  <dc:subject/>
  <dc:title>ADECUACIÓN Textos orales y escritos </dc:title>
</cp:coreProperties>
</file>